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x_8gxh76iM" TargetMode="External"/><Relationship Id="rId2" Type="http://schemas.openxmlformats.org/officeDocument/2006/relationships/hyperlink" Target="http://www.p21.org/storage/documents/1.__p21_framework_2-pager.pdf" TargetMode="External"/><Relationship Id="rId3" Type="http://schemas.openxmlformats.org/officeDocument/2006/relationships/hyperlink" Target="http://cerebrum.wikispaces.com/Searching+the+Internet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ebopedia.com/TERM/W/World_Wide_Web.html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320" y="1828800"/>
            <a:ext cx="1286496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5"/>
                </a:solidFill>
                <a:latin typeface="Gill Sans"/>
              </a:rPr>
              <a:t>Technology &amp; Instructio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3835440"/>
            <a:ext cx="111758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1a38"/>
                </a:solidFill>
                <a:latin typeface="Gill Sans"/>
              </a:rPr>
              <a:t>Whittney Smith, Ed.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3174840" y="4610160"/>
            <a:ext cx="6350040" cy="43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616120" y="673200"/>
            <a:ext cx="7759800" cy="513072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1269720" y="25776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oogle (Gmail, Docs, Reader, Blogger, Sites, Scholar, Forms, Search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eb 2.0 &amp; the 4C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968480" y="2730600"/>
          <a:ext cx="9067680" cy="6045120"/>
        </p:xfrm>
        <a:graphic>
          <a:graphicData uri="http://schemas.openxmlformats.org/drawingml/2006/table">
            <a:tbl>
              <a:tblPr/>
              <a:tblGrid>
                <a:gridCol w="4533840"/>
                <a:gridCol w="4533840"/>
              </a:tblGrid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reativi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hoto Editing (Picni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ni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mic Strip M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or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Blogs, Wikis, Podcasts, Screenca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0b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mmun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ex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Sky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Blog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Emai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Faceboo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odcasting, Screenca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afb"/>
                    </a:solidFill>
                  </a:tcPr>
                </a:tc>
              </a:tr>
              <a:tr h="30225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ritical Thinki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oogle Docs (Spreadsheets, Forms, et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allwis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No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rimary 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632fd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llabor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Photo Sharing (Flickr, Pica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oogle Do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Glog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Tw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Wik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Ske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6cd4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gend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35200" indent="-536760">
              <a:lnSpc>
                <a:spcPct val="100000"/>
              </a:lnSpc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The Dreaded Stair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Discussion of the Chapters &amp; Intro. to </a:t>
            </a: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P21</a:t>
            </a: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Searching the Internet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eb 2.0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Google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Blogging?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marL="835200" indent="-536760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ill Sans"/>
              </a:rPr>
              <a:t>Wikis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269720" y="20826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 believe the more you </a:t>
            </a:r>
            <a:r>
              <a:rPr b="0" lang="en-US" sz="4200" spc="-1" strike="noStrike">
                <a:solidFill>
                  <a:srgbClr val="e936d2"/>
                </a:solidFill>
                <a:latin typeface="Gill Sans"/>
              </a:rPr>
              <a:t>connec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with each individual student in your classroom, although this may be a huge task to do in a large classroom, the more engaged the students will be in your class and the material you are teaching. I believe </a:t>
            </a:r>
            <a:r>
              <a:rPr b="0" lang="en-US" sz="4200" spc="-1" strike="noStrike">
                <a:solidFill>
                  <a:srgbClr val="e935c8"/>
                </a:solidFill>
                <a:latin typeface="Gill Sans"/>
              </a:rPr>
              <a:t>respect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is very important in a classroom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 my experiences, the most effective lessons allow </a:t>
            </a:r>
            <a:r>
              <a:rPr b="0" lang="en-US" sz="4200" spc="-1" strike="noStrike">
                <a:solidFill>
                  <a:srgbClr val="e936d2"/>
                </a:solidFill>
                <a:latin typeface="Gill Sans"/>
              </a:rPr>
              <a:t>active participation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 from the students. Group discussions, hands-on activities, journals, and other activities where students </a:t>
            </a:r>
            <a:r>
              <a:rPr b="0" lang="en-US" sz="4200" spc="-1" strike="noStrike">
                <a:solidFill>
                  <a:srgbClr val="e839ec"/>
                </a:solidFill>
                <a:latin typeface="Gill Sans"/>
              </a:rPr>
              <a:t>"learn by doing" 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ork best in today's classrooms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teacher's role is to create questions and act as a guide for the students. The teacher is no longer the boss or has the upper hand- their job is to guide the students in the right direction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269720" y="837720"/>
            <a:ext cx="1046484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 have based my own teaching practice so far on covering technology and collaboration through </a:t>
            </a:r>
            <a:r>
              <a:rPr b="0" lang="en-US" sz="4200" spc="-1" strike="noStrike">
                <a:solidFill>
                  <a:srgbClr val="e83aec"/>
                </a:solidFill>
                <a:latin typeface="Gill Sans"/>
              </a:rPr>
              <a:t>Bloom’s Taxonomy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3378240" y="3579840"/>
            <a:ext cx="552456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o two students in a class will have the same personality, passions and interests. It is extremely important for us as teachers and facilitators in the partnering classroom to </a:t>
            </a:r>
            <a:r>
              <a:rPr b="0" lang="en-US" sz="4200" spc="-1" strike="noStrike">
                <a:solidFill>
                  <a:srgbClr val="e83aec"/>
                </a:solidFill>
                <a:latin typeface="Gill Sans"/>
              </a:rPr>
              <a:t>get to know our students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erbs” and “NETS-S”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6720" y="2406240"/>
            <a:ext cx="1277604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4000"/>
          </a:bodyPr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Table 2.1 (pgs.48-49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earching and Managing Inform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nking Effective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municating and Presen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tructing and Crea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ivity and Innov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3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NETS-S (Performance Indic.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ff3541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541"/>
                </a:solidFill>
                <a:latin typeface="Gill Sans"/>
              </a:rPr>
              <a:t>Creativity</a:t>
            </a: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 and Innovatio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ff353e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53e"/>
                </a:solidFill>
                <a:latin typeface="Gill Sans"/>
              </a:rPr>
              <a:t>Communication</a:t>
            </a: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2100" spc="-1" strike="noStrike">
                <a:solidFill>
                  <a:srgbClr val="ff2b28"/>
                </a:solidFill>
                <a:latin typeface="Gill Sans"/>
              </a:rPr>
              <a:t>Collaboration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Research and Information Fluency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ff1b0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1b0f"/>
                </a:solidFill>
                <a:latin typeface="Gill Sans"/>
              </a:rPr>
              <a:t>Critical thinking</a:t>
            </a: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, Problem Solving, and Decision Making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Digital Citizenship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ill Sans"/>
              </a:rPr>
              <a:t>Technology Operations and Concepts</a:t>
            </a:r>
            <a:endParaRPr b="0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Web 2.0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Read-Write-Web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Web 2.0 is the term given to describe a second generation of the </a:t>
            </a:r>
            <a:r>
              <a:rPr b="0" lang="en-US" sz="4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orld Wide Web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 that is focused on the ability for people to collaborate and share information online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